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E7AD0-EA0E-4E5D-B598-362AA8DCF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CC72C-F72E-4A90-829E-B092ED545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38334-A689-4813-B20B-31979D86A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D80FE-63ED-41FE-8B67-474A7A3D412E}" type="datetime3">
              <a:rPr b="0" lang="en-US" sz="1200" spc="-1" strike="noStrike">
                <a:solidFill>
                  <a:srgbClr val="000000"/>
                </a:solidFill>
                <a:latin typeface="Arial"/>
              </a:rPr>
              <a:t>July 31,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1431D-451E-4885-AAE1-F6E29CAEF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431C-31B9-42F2-A681-A927B3BB2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A376B-6216-448C-8D4D-B34E850530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9F5EB-D305-4B29-A16B-541352DEF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05D40-6DE8-400B-B4C2-6054963CA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9FA18-6148-41D1-A2F4-677859EFB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1107E-57A3-436C-AE02-C3EC846D0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529E5-846A-4BB8-8580-5B42C76714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9B7F7-582D-44AA-AC90-CDCCE74DF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D7DFB-88A7-4094-8558-BDBF26B7D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150F2-7777-439C-9512-F89AF5D77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5E447-D154-4C95-A531-6CF2FD6E7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F7890-45B2-4580-826A-E6553223F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67E39-89DE-4959-9D84-208755448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34018-0A9C-476B-BE62-7B48091E2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B7F00-9D5C-4AC0-AD3A-B1966D630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D45FA-5CDB-4B17-908B-4C6551C26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73E88-C5E3-43AC-BA0D-1406BE122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092067-5736-4337-8B95-40573D8A7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5314C5-A206-41A2-A7D0-D77F024894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A254B-E0AF-4284-B1B3-DC2D73BDA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D6A72-9255-4992-8A0F-8AC0F70B1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3C272-6F1F-41AF-B03F-BD358E537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9B6FA-9F18-43F9-A0F4-44D7B4FF1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C30A9-0D46-4FE4-AD80-DDEE623FE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337A7-D2B5-4554-BD33-9B007CC21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46B55-D472-4D63-8F1A-8AC5E96D3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C4DC-DF8F-449C-AC69-BC6849BF53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DA786C3-8B1A-41DB-90AD-AF3B6A35B80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27982B3-DCD6-440D-B014-2CA77D8C4C9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79AD-2469-464E-8F48-5DE6B0BBC915}"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DA37-065E-42DB-8A5D-6E946CC6A1B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